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9C95-8914-432E-94E3-4328F84FB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519F-BB71-4F93-8288-8869CFD51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video clip, develop frame for them to respon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0F47-98D6-4383-9B0D-23F2000F0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photocopies of han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1975-23C7-4D4C-8E65-BA4E6C94E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0749-DCFF-4FC6-9D72-BCC50B656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34E8-96EA-4027-A5F1-423707944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88CF-A8C2-4554-93FC-15DC2DDC3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E857-ADC1-4223-9619-681F1BFA8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3863-A6AB-41F4-BA60-1721EA73A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ally more about what the teacher does with the writing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ot about the writing technique….it is about what you do with the writing.  Opportunities for scoring and feedback increase as you move from engaging to processing to demonstrating understan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66FF-4D0F-42E0-8258-929263D97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Show examples of Engaging and Proce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0D29-E056-4826-A984-7DE032DE4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7BC-0EF9-47E5-AD7C-3AB79BCD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242-0099-42E1-A01C-EAB12450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355C-BCDF-4B0C-9537-17386A83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B5C-37D8-46F6-AC0D-BF6B6ED2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A82C-C6CE-4A94-880D-B7238E6F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5DFC-C10C-4144-BA12-91B26DAE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F05F-D778-4715-B52E-6D5078ED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0B7E-D9AB-4BE3-902A-407EDB8A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0684-7E0E-4D25-A7CC-E42DA72A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1839-8E06-4216-84D2-DEAFD97D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AAA7-37AA-44E1-BC38-0B8DB310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11E-CD73-407A-B5B5-DE0EB5D1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B4FC-237F-491C-93F3-26ECC5C6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77A5-3A64-429B-9FBF-8FC3158B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C11F-D2B5-4450-BD14-3B6A8D61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71C5-16AA-4703-8451-366348BF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439C-32E3-4FA3-9F5B-B040E1C8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1A0C2-EC8C-46A1-9762-F1C134C1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503B1-9D63-489C-94F7-BB29E461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101B-9549-47E2-9CF9-60D84792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30BF2-DF48-42BA-8302-14830BCA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6C6D9-2010-4DA1-9B0D-FE8A83B2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F4D-FCEA-4734-9FAE-FEE20C95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C654F-2199-4D07-801F-FBD381E1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B8154-03A5-439A-9D22-0B172285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7D770-2099-4B0D-A8D8-962F8F4E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5CC55-805A-4960-93A6-F2768A09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6BDFE-D03B-4E21-9287-B8A8AD54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5FA06-B122-4803-9F12-F830BE0F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21CE4-A09C-482A-AB1B-06E62B09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A6EAF-4B48-4C14-9C8C-FE116332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D8FBE-71C6-4D46-8C30-95EA567D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68983-9A70-4DBE-A0C4-625731DF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B02F-1AF6-40C1-A5AF-869E38F4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D9275-BA23-4CA7-BBF9-C9F5E893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89629-BE95-418D-BDC0-BC4190FF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5F325-ECB6-4684-9923-52A4E474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CFB79-0744-41CD-BE4A-78AAB12F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5ADD0-4E55-4BF2-B530-0AA592D2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846D3-2939-4504-808E-27DC2E69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DA0C5-631D-4AB2-ADF2-A6A327B1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0FCC4-14EF-448E-A95C-A31AE2B0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339B1-D876-47F7-AF99-9843B43E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3BF48-384B-4DE2-97F2-059FF459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921-5971-4E43-A161-1FB2C61A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9A92A-FFE2-4E8C-98A9-C9281220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2859C-93DC-4226-8412-C7F0CF84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D2EA2-6F65-4DEE-811F-01AC1380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A3A1F-D5ED-4BDA-977D-1EDA4DE6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B3352-3505-4B15-BF9E-AC8CF8FA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4D3E8-60E3-4CAA-AF74-74FF2B18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7556F-5244-4964-8B83-E8F00973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11DD0-3EA3-48B1-B966-0F17F3F3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1D6B2-03BD-4CFA-A97E-7C172414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D0B1E-3C21-45BC-99A4-84D4D781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17E1-09A7-485E-BBBF-67796620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ADF43-FAAE-40E1-BCE8-2CEB5664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7367A-5197-4F5C-B6C9-BD950236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7494C-432F-42F2-A615-0703D2DD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79FAA-4FF7-417F-8399-06670F99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04BDE-AFF7-4574-BF9D-7DEF4665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9B9C0-8100-4E03-84F9-56ACB107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A7D4D-6F41-4A57-AA5B-33BC4024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81405-4395-4D82-81B4-2B859B94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766EC-70C0-4346-A7D8-9AB2A90E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8A436-D8A0-434C-910F-B37981FE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795C-5489-4E25-9D83-4672847B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FD40F-E6B5-4D5F-8D9D-DED04645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BF137-0ACE-4B43-92E4-992B1E3A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1C716-1075-4419-A15B-E652597A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AA5B8-6EA8-4448-A485-3240180D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7311E-CEA8-4107-92D3-2F6B68F7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60CF8-743F-4CF6-99EA-3AF65D02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DF994-AC7C-4F77-9AFF-F38D6745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B4657-8AF7-4EE3-90E9-A5B5E74E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13D0D-FB8D-4279-A5AA-1FAA2545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35A68-6F16-4718-9A8D-55465CFB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3C5C-6F93-4CAB-923F-BCF14C2B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51BE0-668E-4C9D-8785-D04855E4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1D859-EEDC-4EE8-A766-8147A1ED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62403-519D-459C-9393-28B542EA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3FC56-7322-478D-9B0C-56D98D2C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BE962-7471-4466-B741-DD41DF41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58FB1-5BB2-4E9F-9773-84B07866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01CA4-1059-4141-BBF7-C02152A2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70491-2919-47C1-B62A-7A647252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23CA9-9B92-4981-A360-5FF37F22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AF3D7-4552-4C3E-BEF7-6EC07536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D36-2F27-4F0A-904D-31714765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8653D-4B0D-4501-9C5C-64385309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CA5F4-D3C7-4E03-90F0-6F113612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C294D-BB04-445F-B8CC-EA7CF6DA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F73E4-CF5F-4A5A-9399-7496E229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2ECB3-81EE-461E-A7C0-D11140EB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EA1A4-C8DD-493D-9E85-A674A2A3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F02EF-3107-4C3C-8CFD-F5853018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c9c9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b2b2b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07E4-C8FD-4E03-8691-4B0585384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c9c9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b2b2b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E729-6C64-41E6-B72C-2459887B5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c9c9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b2b2b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5F18-00EA-47E1-BDD0-53C65A87F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c9c9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b2b2b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F38C-7166-46B1-A019-CCC9BBA25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c9c9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b2b2b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DFDF-3ACC-4A73-A562-A2B8901FB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c9c9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b2b2b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E412-7033-4436-8DC3-039402629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c9c9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b2b2b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B6B5-F06D-404F-AB93-FA7AE121B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c9c9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b2b2b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DE32-3AE4-464D-BCAA-F8A182690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m77KSBhyR8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3000" y="37335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Writing to Lear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Lincoln Team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anuary 18, 201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reating your writing opportunities…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 Example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To Kill A Mockingbi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dddddd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ding Literature, standard 1-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b2b2b2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te strong and thorough textual evidence to support analysis of what the text says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dddddd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ading Literature, standard 2-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termine a theme or central idea of a text and analyze in detail its development over the course of the text, including how it emerges and is shaped and refined by specific details; provide and objective summary of the text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itle 3"/>
          <p:cNvSpPr/>
          <p:nvPr/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OMPT EXAMPLES STANDARD, THREE PURP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380880" y="1219320"/>
          <a:ext cx="8458200" cy="5410080"/>
        </p:xfrm>
        <a:graphic>
          <a:graphicData uri="http://schemas.openxmlformats.org/drawingml/2006/table">
            <a:tbl>
              <a:tblPr/>
              <a:tblGrid>
                <a:gridCol w="2210040"/>
                <a:gridCol w="2743200"/>
                <a:gridCol w="3504960"/>
              </a:tblGrid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Enga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c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emonstrat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nderstan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o you think people are inherently good or evil?  Give examples from your life or people you kno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sing an example from Chapter 3 write about whether you think humans are inherently good or evil.  What are the characters doing or saying that supports your opin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discussed the theme of good and evil as we read TKMB.  Write a letter to Scout where are you evaluate whether people are inherently good or evil.  Construct your argument using examples from the boo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rticl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256320" indent="-256320">
              <a:spcBef>
                <a:spcPts val="499"/>
              </a:spcBef>
              <a:buClr>
                <a:srgbClr val="b2b2b2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Writing Frames: scaffolding children’s nonfiction writing in a range of genre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Gill Sans MT"/>
              </a:rPr>
              <a:t>by Maureen Lewis and David Wra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42948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42948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42948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Gill Sans MT"/>
              </a:rPr>
              <a:t>Complete the Double Entry Journa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42948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 MT"/>
              </a:rPr>
              <a:t>- When you are finished put a star next to your MVP (Most Valuable Point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4" name="Picture 2" descr="C:\Program Files\Microsoft Office\MEDIA\OFFICE12\Bullets\BD21298_.gif"/>
          <p:cNvPicPr/>
          <p:nvPr/>
        </p:nvPicPr>
        <p:blipFill>
          <a:blip r:embed="rId1"/>
          <a:stretch/>
        </p:blipFill>
        <p:spPr>
          <a:xfrm>
            <a:off x="380880" y="3886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Writing Fra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hould teachers use Facebook to talk to students?</a:t>
            </a:r>
            <a:br>
              <a:rPr sz="3200"/>
            </a:br>
            <a:r>
              <a:rPr b="0" lang="en-US" sz="3200" spc="-1" strike="noStrike" u="sng">
                <a:solidFill>
                  <a:srgbClr val="5f5f5f"/>
                </a:solidFill>
                <a:uFillTx/>
                <a:latin typeface="Bookman Old Style"/>
                <a:hlinkClick r:id="rId1"/>
              </a:rPr>
              <a:t>http://www.youtube.com/watch?v=Tm77KSBhyR8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86" name="Should_Teachers_Use_Facebook_To_Talk_To_Students.wmv" descr=""/>
          <p:cNvPicPr/>
          <p:nvPr/>
        </p:nvPicPr>
        <p:blipFill>
          <a:blip r:embed="rId2"/>
          <a:stretch/>
        </p:blipFill>
        <p:spPr>
          <a:xfrm>
            <a:off x="2971800" y="39625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Develop a frame for your us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ing your “Sample Genre Frames” develop a frame that you can use in your own class.  Choose one frame option to guide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Exit Slip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2 word summary (caveman summary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What you’ve learned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Your understanding of a writing fram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The difference between engaging and processing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r our Feb.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man Old Style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meeting…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ring back at least 1 writing frame that you were able to implement with studen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Be prepared to share these frames and a few sample student writing products with the group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vity Name: Writing to Learn-Year 1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Implement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vity #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A01321737120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05680" indent="-22392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quires 15 hours of documented agendas for professional development provided at the building level (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Due May 3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).  Data Team meetings may be incorporated within this 15 hour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GOAL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cross the school yea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ing in EVERY classroom EVERY da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mediate go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T STUDENTS WRITING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Admit Slip: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lf Assessmen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304920" y="1600200"/>
          <a:ext cx="8534160" cy="4800600"/>
        </p:xfrm>
        <a:graphic>
          <a:graphicData uri="http://schemas.openxmlformats.org/drawingml/2006/table">
            <a:tbl>
              <a:tblPr/>
              <a:tblGrid>
                <a:gridCol w="5997600"/>
                <a:gridCol w="844560"/>
                <a:gridCol w="846000"/>
                <a:gridCol w="846000"/>
              </a:tblGrid>
              <a:tr h="893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ive yourself a score (3 high, 1 low) and explain why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mplementing a Write to Lear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requency of in-class writing opportun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Goal: writing in every class, every 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mfort level with implementation within your 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Group Sharing of Example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hare some examples of engaging writing opportunities you have implemented with stud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Quick Writ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what worked and what didn’t work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Whip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Quick Writ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how can you see Write To Learn being used in the coming weeks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Whip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ree Purposes for Nonfiction Writing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urposes for Nonfiction Writing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04920" y="1600200"/>
          <a:ext cx="8534160" cy="433404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4720"/>
              </a:tblGrid>
              <a:tr h="914400"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Enga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c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emonstrating Understa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41964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urpose:  provide all students  with  a nonthreatening opportunity to respo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udents engaged in wr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- Not graded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urpose:  help students “think” through the end of their  p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udents processing the 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Gill Sans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ome feed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Gill Sans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heck, +, - S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urpose:  produce a product piece that goes through the writing proce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udents are provided feedback in using a rubric with clearly identified levels of pro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Purposes for Nonfiction Writing: What Do They Look Like?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04920" y="1600200"/>
          <a:ext cx="8610480" cy="426708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825480">
                <a:tc>
                  <a:txBody>
                    <a:bodyPr lIns="91800" rIns="918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Enga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800" marR="91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1800" rIns="918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c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800" marR="91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emonstrating Understa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81384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Gill Sans MT"/>
                        </a:rPr>
                        <a:t>Requires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EQUENT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on-threatening opportunities for students to wri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rticipation by all stud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(does not require)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eacher collection or gr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Gill Sans MT"/>
                        </a:rPr>
                        <a:t>Require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houghtful prompts aligned with curriculum stand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alysis of student work (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eddingText BT"/>
                        </a:rPr>
                        <a:t>√ + -)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to determine next steps for instruction (formativ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Gill Sans MT"/>
                        </a:rPr>
                        <a:t>Require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mmon promp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mmon rubr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sistent expect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llocated time for collaborative sco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uilding cul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73" name="TextBox 2"/>
          <p:cNvSpPr/>
          <p:nvPr/>
        </p:nvSpPr>
        <p:spPr>
          <a:xfrm>
            <a:off x="457200" y="57150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Opportunities for scoring and feedback increase as you move from engaging to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reating your writing opportunities…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tent—Social Stud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ndard- ICC- Pol. Sci. F-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Understand how various political systems throughout the world define the rights and responsibilities of the individual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7288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 plain English:  Compare and contrast different governments by the way they treat their citizens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itle 3"/>
          <p:cNvSpPr/>
          <p:nvPr/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OMPT EXAMPLES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STANDARD, THREE PURP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80880" y="1066680"/>
          <a:ext cx="8458200" cy="5668920"/>
        </p:xfrm>
        <a:graphic>
          <a:graphicData uri="http://schemas.openxmlformats.org/drawingml/2006/table">
            <a:tbl>
              <a:tblPr/>
              <a:tblGrid>
                <a:gridCol w="2210040"/>
                <a:gridCol w="3504960"/>
                <a:gridCol w="274320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Enga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c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emonstrat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nderstan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360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Gill Sans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f you were stranded on a desert island what three rules would you have?  Why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Gill Sans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f you lived in a country with a (monarchy, autocracy, oligarchy), state three ways your life would be different than it is now.  Why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Gill Sans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ame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   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 monarchy is a system of government where…  In a monarchy a citizen is required…  Citizens have_____ freed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Gill Sans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- In an essay compare and contrast the following forms of government, paying close attention to pros and cons of eac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8:40:40Z</dcterms:created>
  <dc:creator>Curto, Sara</dc:creator>
  <dc:description/>
  <dc:language>en-US</dc:language>
  <cp:lastModifiedBy>Curto, Sara</cp:lastModifiedBy>
  <dcterms:modified xsi:type="dcterms:W3CDTF">2012-01-17T14:47:17Z</dcterms:modified>
  <cp:revision>36</cp:revision>
  <dc:subject/>
  <dc:title>PowerPoint Presentation</dc:title>
</cp:coreProperties>
</file>